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7.jpeg" ContentType="image/jpeg"/>
  <Override PartName="/ppt/media/image3.gif" ContentType="image/gif"/>
  <Override PartName="/ppt/media/image4.gif" ContentType="image/gif"/>
  <Override PartName="/ppt/media/image8.png" ContentType="image/png"/>
  <Override PartName="/ppt/media/image5.gif" ContentType="image/gif"/>
  <Override PartName="/ppt/media/image6.gif" ContentType="image/gif"/>
  <Override PartName="/ppt/media/image10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30D9-3FB7-4F1D-8435-092345085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0A78-46EE-40A1-8E61-7387C1F1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7727-5275-45DC-85DD-39EAAA4C7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0DE1-5E0C-43A4-98A4-50441CD06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7D23-A1C0-4E5B-B4AF-0C6252E11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F65B-96E0-44ED-8E32-27702CFC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170A-EA7B-47F1-A0C3-E18A5C80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5AA3-B129-4DE3-B6C2-05FE3A97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66685-4A09-4141-8AE7-C920DE63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CB69-1733-467E-89AA-FC54E103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B77B-0C37-4E07-8C63-3BE19E8E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B0C7-4A15-454A-8753-62771773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1E49F-0C7A-4030-B25F-7EC62453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24B6-6CEA-4EC8-9FB5-9A19F4E4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7E6A-C9F2-4427-A3C1-3B621DCC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6B0D8-FACC-4754-98FA-403C871F6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9578-8519-4DC4-BBEA-3D7BEB124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9111-2951-4EA4-9588-A2B8C564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F516-0125-43C8-B794-D57F8E72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CCDE-00D9-4DFD-8A33-E0CD602C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71A1-7F4A-4509-AFB9-C4D5A734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DC7D-EBD9-4C91-8199-2BDFC737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B898-2D04-4026-B9A7-2FACE932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CB91-32C7-447B-AAE4-EBE0CE79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949C-B7A4-4B68-917D-EBAB77F00B4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D94B-9296-43F1-859E-05C27AFE242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ee941c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 rot="21446400">
            <a:off x="403200" y="1911240"/>
            <a:ext cx="8242200" cy="305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ymbols  of Valentine's day</a:t>
            </a:r>
            <a:endParaRPr b="0" lang="en-US" sz="72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780000" y="333360"/>
            <a:ext cx="1512720" cy="1297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16360" y="5300640"/>
            <a:ext cx="3816360" cy="1224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ccecff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зентация: Пирогов 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чащийся 9 «а» кл., МО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Ш №7, г. Усть - Ку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ff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The heart  is still a symbol  of love, and because of this, it is also a  symbol of  Valentine’s Da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340000" y="404640"/>
            <a:ext cx="3672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Times New Roman"/>
              </a:rPr>
              <a:t>Hear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932360" y="4005360"/>
            <a:ext cx="1943280" cy="1728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1382760" cy="1441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7451640" y="189000"/>
            <a:ext cx="1287720" cy="13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33cc33"/>
            </a:gs>
            <a:gs pos="100000">
              <a:srgbClr val="ff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771640" y="404640"/>
            <a:ext cx="31276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Red Ros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Monotype Corsiva"/>
              </a:rPr>
              <a:t>The rose  was  the favorite flower of Venus, the  Roman goddess of love.  Red is a color that stands for strong  feeling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516720" y="4221000"/>
            <a:ext cx="207648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33cc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Monotype Corsiva"/>
              </a:rPr>
              <a:t>Ribbons go back to the days when ladies gave ribbons to their favorite knights when  they went to wa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843280" y="333360"/>
            <a:ext cx="34131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Ribbon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 rot="19950600">
            <a:off x="323640" y="4581000"/>
            <a:ext cx="208908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Lace comes from a latin word, it  means “to  catch”. Lace was supposed to catch the heart of a loved on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987640" y="692280"/>
            <a:ext cx="3484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993366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Lace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993366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Monotype Corsiva"/>
              </a:rPr>
              <a:t>Years ago, when a man proposed marriage to a woman, he “asked for her hand”. The hand became a symbol of marriage and love. Soon gloves  also became a symbol  of lov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403280" y="620640"/>
            <a:ext cx="55450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love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50000">
              <a:srgbClr val="ee941c"/>
            </a:gs>
            <a:gs pos="100000">
              <a:srgbClr val="4d4d4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Monotype Corsiva"/>
              </a:rPr>
              <a:t>In some countries, men and women exchange rings when they become engaged or marry. Two or three hundred years ago, Valentine’s Day was a popular day for giving  an engagement ring. An engagement ring usually had a stone or jewel set in it. Diamonds are common in today’s engagement rin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195640" y="260280"/>
            <a:ext cx="4392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e941c"/>
                </a:solidFill>
                <a:latin typeface="Times New Roman"/>
              </a:rPr>
              <a:t>Ring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e941c"/>
              </a:solidFill>
              <a:latin typeface="Times New Roman"/>
              <a:ea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203640" y="4149720"/>
            <a:ext cx="281916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ffccff"/>
            </a:gs>
            <a:gs pos="100000">
              <a:srgbClr val="0000a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Monotype Corsiva"/>
              </a:rPr>
              <a:t>Son of Venus, goddess of love. He could cause people to fall in love by piercing them with one of his magic arrow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771640" y="620640"/>
            <a:ext cx="3527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upid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4508640"/>
            <a:ext cx="3132000" cy="2349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201080" y="5129280"/>
            <a:ext cx="19429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05:23:31Z</dcterms:created>
  <dc:creator>Владимир</dc:creator>
  <dc:description/>
  <dc:language>en-US</dc:language>
  <cp:lastModifiedBy>Rust</cp:lastModifiedBy>
  <dcterms:modified xsi:type="dcterms:W3CDTF">2010-01-03T13:14:20Z</dcterms:modified>
  <cp:revision>10</cp:revision>
  <dc:subject/>
  <dc:title>Слайд 1</dc:title>
</cp:coreProperties>
</file>